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58400" cy="77724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39541-64C9-42F4-8C60-A6A2DC465B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ciency in current mcount routine is being addressed with a new mcount (gnu_mcout) with slightly difference call seman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DD2F-9647-45A3-AD2C-87EC8428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21988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2600" y="4542480"/>
            <a:ext cx="821988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D74-2260-45DB-B60D-10B85C06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40111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4600" y="1600200"/>
            <a:ext cx="40111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2600" y="4542480"/>
            <a:ext cx="40111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24600" y="4542480"/>
            <a:ext cx="40111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FBA8-A4B0-4645-A7A4-9455091D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26467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2160" y="1600200"/>
            <a:ext cx="26467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1360" y="1600200"/>
            <a:ext cx="26467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2600" y="4542480"/>
            <a:ext cx="26467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2160" y="4542480"/>
            <a:ext cx="26467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1360" y="4542480"/>
            <a:ext cx="26467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003-C1F3-4C7F-B07C-BF1254B9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2600" y="1600200"/>
            <a:ext cx="821988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504B-015F-4981-90B4-93BBB04B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21988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362-F34A-4F59-A760-2A5B7950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401112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4600" y="1600200"/>
            <a:ext cx="401112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5FB9-F31C-4D3A-8A41-C4BEE36E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0B7-59E8-44FE-9CB8-EA71591A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2600" y="457200"/>
            <a:ext cx="821988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A92-F4BA-48FE-BE5D-7100540B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40111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4600" y="1600200"/>
            <a:ext cx="401112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2600" y="4542480"/>
            <a:ext cx="40111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6F09-F53F-48E3-8207-442AF7C3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401112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4600" y="1600200"/>
            <a:ext cx="40111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24600" y="4542480"/>
            <a:ext cx="40111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A66-F582-458E-9189-24D84DE9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40111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4600" y="1600200"/>
            <a:ext cx="401112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2600" y="4542480"/>
            <a:ext cx="8219880" cy="26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41E-4687-424D-A8C4-9DD64D29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381400" cy="7772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ffff">
                  <a:alpha val="6039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7315200"/>
            <a:ext cx="10058400" cy="457200"/>
          </a:xfrm>
          <a:prstGeom prst="rect">
            <a:avLst/>
          </a:prstGeom>
          <a:solidFill>
            <a:srgbClr val="00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2600" y="1600200"/>
            <a:ext cx="821988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spcAft>
                <a:spcPts val="14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spcAft>
                <a:spcPts val="14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9560" indent="-20808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9560" indent="-20808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9560" indent="-20808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7314840"/>
            <a:ext cx="139860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14240" y="7311960"/>
            <a:ext cx="5173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7315200"/>
            <a:ext cx="1211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6344C-0689-4251-AB55-7B7B47816AE2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f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205740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4200" y="1981080"/>
            <a:ext cx="85500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Function Dur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Ft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508040" y="4952880"/>
            <a:ext cx="7042320" cy="14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im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y Corporation of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tim.bird (at) am.sony.co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91520" y="1371600"/>
            <a:ext cx="2361960" cy="685800"/>
          </a:xfrm>
          <a:prstGeom prst="wedgeRoundRectCallout">
            <a:avLst>
              <a:gd name="adj1" fmla="val 4638"/>
              <a:gd name="adj2" fmla="val 123148"/>
              <a:gd name="adj3" fmla="val 16667"/>
            </a:avLst>
          </a:prstGeom>
          <a:solidFill>
            <a:srgbClr val="99cc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0" anchor="t">
            <a:noAutofit/>
          </a:bodyPr>
          <a:p>
            <a:pPr marL="422280" indent="-317520" algn="ctr">
              <a:lnSpc>
                <a:spcPct val="66000"/>
              </a:lnSpc>
              <a:spcAft>
                <a:spcPts val="1426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On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21988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put is human readabl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special tools required to collect tra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 tra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urns EOF at end of trac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 trace_pipe | grep foo &gt;log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cks at end of trac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ck enable/di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ho 0 &gt;tracing_enab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ng Buffer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ng_buffer_lock_re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omically reserve space in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ng_buffer_event_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t pointer to place to fill with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ng_buffer_unlock_co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it ev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ng_buffer_discard_co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ard reserved data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graph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s function entry and ex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 goo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relationship between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GREAT way to learn about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unexpected/abnormal cod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function 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long latencies and performanc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, the -pg option only instruments function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king function ex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 ‘function’ tracer just traces function entry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apture function exit, a trampoline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es real return addr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laces return address with address of trampo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exit tracer, return to the real return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 of Trampo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2438280"/>
            <a:ext cx="137160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2514600"/>
            <a:ext cx="129528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19520"/>
            <a:ext cx="1295280" cy="30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5334120"/>
            <a:ext cx="12952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5029200"/>
            <a:ext cx="12952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2209680"/>
            <a:ext cx="129528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4724280"/>
            <a:ext cx="12952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5638680"/>
            <a:ext cx="12952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3124080"/>
            <a:ext cx="129528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2057400"/>
            <a:ext cx="1371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2819520"/>
            <a:ext cx="13716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4800600"/>
            <a:ext cx="1371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3600" y="1447920"/>
            <a:ext cx="153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22280" indent="-317520"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514600"/>
            <a:ext cx="121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22280" indent="-317520"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71800" y="22860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19160" y="4952880"/>
            <a:ext cx="177372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22280" indent="-31752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Func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r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95480" y="2133720"/>
            <a:ext cx="157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22280" indent="-317520"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18080" y="2971800"/>
            <a:ext cx="194436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22280" indent="-31752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Func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r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4648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971440" y="2971440"/>
            <a:ext cx="10666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4600" y="2057400"/>
            <a:ext cx="3593880" cy="4114800"/>
          </a:xfrm>
          <a:custGeom>
            <a:avLst/>
            <a:gdLst/>
            <a:ahLst/>
            <a:rect l="l" t="t" r="r" b="b"/>
            <a:pathLst>
              <a:path w="2216" h="2600">
                <a:moveTo>
                  <a:pt x="2216" y="2352"/>
                </a:moveTo>
                <a:cubicBezTo>
                  <a:pt x="1404" y="2476"/>
                  <a:pt x="592" y="2600"/>
                  <a:pt x="296" y="2208"/>
                </a:cubicBezTo>
                <a:cubicBezTo>
                  <a:pt x="0" y="1816"/>
                  <a:pt x="220" y="908"/>
                  <a:pt x="44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77520" y="1457280"/>
            <a:ext cx="246888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22280" indent="-31752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head_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truct ret_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1981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34120" y="4267080"/>
            <a:ext cx="137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22280" indent="-317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05520" y="2209680"/>
            <a:ext cx="156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22280" indent="-317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all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05520" y="2514600"/>
            <a:ext cx="156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22280" indent="-317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alle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7080" y="5029200"/>
            <a:ext cx="161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22280" indent="-317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t ad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4952880"/>
            <a:ext cx="990720" cy="355680"/>
          </a:xfrm>
          <a:custGeom>
            <a:avLst/>
            <a:gdLst/>
            <a:ahLst/>
            <a:rect l="l" t="t" r="r" b="b"/>
            <a:pathLst>
              <a:path w="624" h="224">
                <a:moveTo>
                  <a:pt x="0" y="0"/>
                </a:moveTo>
                <a:cubicBezTo>
                  <a:pt x="116" y="80"/>
                  <a:pt x="232" y="160"/>
                  <a:pt x="336" y="192"/>
                </a:cubicBezTo>
                <a:cubicBezTo>
                  <a:pt x="440" y="224"/>
                  <a:pt x="532" y="208"/>
                  <a:pt x="624" y="1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29718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88" y="1240"/>
                  <a:pt x="176" y="1232"/>
                  <a:pt x="240" y="1056"/>
                </a:cubicBezTo>
                <a:cubicBezTo>
                  <a:pt x="304" y="880"/>
                  <a:pt x="320" y="368"/>
                  <a:pt x="384" y="192"/>
                </a:cubicBezTo>
                <a:cubicBezTo>
                  <a:pt x="448" y="16"/>
                  <a:pt x="536" y="8"/>
                  <a:pt x="6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2286000"/>
            <a:ext cx="990720" cy="2921040"/>
          </a:xfrm>
          <a:custGeom>
            <a:avLst/>
            <a:gdLst/>
            <a:ahLst/>
            <a:rect l="l" t="t" r="r" b="b"/>
            <a:pathLst>
              <a:path w="624" h="1840">
                <a:moveTo>
                  <a:pt x="0" y="0"/>
                </a:moveTo>
                <a:cubicBezTo>
                  <a:pt x="88" y="12"/>
                  <a:pt x="176" y="24"/>
                  <a:pt x="240" y="288"/>
                </a:cubicBezTo>
                <a:cubicBezTo>
                  <a:pt x="304" y="552"/>
                  <a:pt x="320" y="1328"/>
                  <a:pt x="384" y="1584"/>
                </a:cubicBezTo>
                <a:cubicBezTo>
                  <a:pt x="448" y="1840"/>
                  <a:pt x="536" y="1832"/>
                  <a:pt x="624" y="18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2286000"/>
            <a:ext cx="990720" cy="68580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0"/>
                </a:moveTo>
                <a:cubicBezTo>
                  <a:pt x="128" y="20"/>
                  <a:pt x="256" y="40"/>
                  <a:pt x="336" y="96"/>
                </a:cubicBezTo>
                <a:cubicBezTo>
                  <a:pt x="416" y="152"/>
                  <a:pt x="432" y="280"/>
                  <a:pt x="480" y="336"/>
                </a:cubicBezTo>
                <a:cubicBezTo>
                  <a:pt x="528" y="392"/>
                  <a:pt x="600" y="416"/>
                  <a:pt x="624" y="43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by D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21988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 duration to thresh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ard function entry and exit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discard exit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don’t commi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ickier to discard entry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ng_buffer_event_discard() converts event to padding if subsequent events have been committed to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stes a lot of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ely constrains the time coverage for a 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ing Event Disc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21988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ly, can’t discard events after other events are committed to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with duration filtering, if an event is filtered for duration, then all children functions are filtered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event” in buffer is always function entry for current ex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have to “rewind” one event, which is relatively easy  (and likely sa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from optimized disc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76520" y="1523880"/>
          <a:ext cx="7164360" cy="4800600"/>
        </p:xfrm>
        <a:graphic>
          <a:graphicData uri="http://schemas.openxmlformats.org/drawingml/2006/table">
            <a:tbl>
              <a:tblPr/>
              <a:tblGrid>
                <a:gridCol w="1906560"/>
                <a:gridCol w="1295280"/>
                <a:gridCol w="1293840"/>
                <a:gridCol w="1601640"/>
                <a:gridCol w="1067040"/>
              </a:tblGrid>
              <a:tr h="1006560">
                <a:tc>
                  <a:txBody>
                    <a:bodyPr lIns="0" rIns="0" tIns="9144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iscard op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uration Filter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otal Function 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ime covered by 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9144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race event 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88520">
                <a:tc>
                  <a:txBody>
                    <a:bodyPr lIns="90000" rIns="90000" tIns="91440" bIns="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iscard_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292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.39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7392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91440" bIns="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iscard_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310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.29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6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91440" bIns="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iscard_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309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.34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64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91440" bIns="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wind_t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295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.39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73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91440" bIns="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wind_t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327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1.26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5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tIns="91440" bIns="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wind_t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328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79.44s 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6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838080" y="6629400"/>
            <a:ext cx="7543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22280" indent="-31752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†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he test only lasted 79 seconds—extrapolating the results yields a trace coverage time of 27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txBody>
          <a:bodyPr lIns="0" rIns="0" tIns="182880" bIns="0" anchor="t">
            <a:normAutofit/>
          </a:bodyPr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mount debugfs -t debugfs /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cd /debug/tr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cat available_tra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_graph function sched_switch n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0 &gt;tracing_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1000 &gt;tracing_thr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function_graph &gt;current_tr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1 &gt;tracing_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for i in ‘seq 1 10‘ ; do ls /bin | sed s/a/z/g ;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0 &gt;tracing_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funcgraph-abstime &gt;trace_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funcgraph-proc &gt;trace_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cat 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unction Graph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8220240" cy="506736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F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function graph tracing to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t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ing the discard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trace analysis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trac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ftd to analyz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function 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“local tim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ll time minus sub-routine wal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be wrong if we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an option to subtract time that function was scheduled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ter, sort, select output columns,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td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917200" cy="5791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91440" bIns="0" anchor="t">
            <a:normAutofit/>
          </a:bodyPr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                          Count Time       Average  Local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 ----- ---------- -------- 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hedule                               59 1497735270 25385343 14766429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_write                              56 1373722663 24530761    28926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fs_write                              56 1367969833 24428032    34731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y_write                              54 1342476332 24860672 12123011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_path_lookup                         95 1076524931 11331841   346821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__link_path_walk                       99 1051351737 10619714    6702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pc_call_sync                          87 1033211085 11875989    17001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_walk                              94 1019263902 10843233    34251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pc_run_task                           87  960080412 11035407    2292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pc_execute                            87  936049887 10759194    2316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__rpc_execute                          87  932779083 10721598   113833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_lookup                             191  875826405  4585478    9510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_transmit                         100  785408085  7854080    58713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__nfs_revalidate_inode                 38  696216223 18321479    16521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fs_proc_getattr                       38  690552053 18172422    12346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7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head of tr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be substa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erage function duration = 1.7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head = 18.89 microseconds pe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 used was CPU-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/sys &gt;/dev/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I/O bound test, ratio of overhead to average function length should be much 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head 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12960" y="1600200"/>
          <a:ext cx="8219880" cy="4386240"/>
        </p:xfrm>
        <a:graphic>
          <a:graphicData uri="http://schemas.openxmlformats.org/drawingml/2006/table">
            <a:tbl>
              <a:tblPr/>
              <a:tblGrid>
                <a:gridCol w="1644480"/>
                <a:gridCol w="1643040"/>
                <a:gridCol w="1644840"/>
                <a:gridCol w="1643040"/>
                <a:gridCol w="1644480"/>
              </a:tblGrid>
              <a:tr h="1097640">
                <a:tc>
                  <a:txBody>
                    <a:bodyPr lIns="0" rIns="0" tIns="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racer Sta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Elapsed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Function 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ime per 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Overhead per 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821880">
                <a:tc>
                  <a:txBody>
                    <a:bodyPr lIns="0" rIns="0" tIns="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RACE=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9.25 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.91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.72 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0" rIns="0" tIns="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0.30 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.92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.05 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.33 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0" rIns="0" tIns="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Graph disabl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9.85 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.98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5.22 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50 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0" rIns="0" tIns="0" bIns="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Graph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72.15 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29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0.61 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91440" bIns="0" anchor="t">
                      <a:noAutofit/>
                    </a:bodyPr>
                    <a:p>
                      <a:pPr marL="104760" indent="-104760" algn="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8.89 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dmap and 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line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M function graph tracing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ation fil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ently rejected – back to the drawing board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 to use functionality to improve bootup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kernel b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irements for using ftrace in early b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ailability of clock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ic(?) definition of trac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 location for tracing (optimally start_kernel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itialization of ring buffer and tracer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uld be nice to do at compilation time, but that’s har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76456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trace tutorial at OLS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people.redhat.com/srostedt/ftrace-tutorial.o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deo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free-electrons.com/pub/video/2008/ol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lnSpc>
                <a:spcPct val="100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ls2008-steven-rostedt-ftrace.o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orld of Ftrace” at Spring 2009 LF Collaboration Su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people.redhat.com/srostedt/ftrace-world.o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ches and tools for this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elinux.org/Ftrace_Function_Graph_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4200" y="2414520"/>
            <a:ext cx="8550000" cy="16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508040" y="4403520"/>
            <a:ext cx="70423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2600" y="501480"/>
            <a:ext cx="822636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 to Ft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226360" cy="55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s Ftr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view of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tim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cap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ce log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graph tr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Ftr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21988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trace is the first generic tracing system to get mainlined (Hurray!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lined in 2.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rived from RT-preempt latency tra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s a generic framework for tr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rastructure for defining trace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ility to register different kinds of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alized data structure (ring buffer) for trace data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FTrace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r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cepoints defined by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ls to trace handler written in 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omatically inserted by 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s gcc ‘-pg’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erts call to ‘mcount’ in each function pro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y to maintain – no source code 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practical way to maintain 20,000+ trace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2960" y="453960"/>
            <a:ext cx="82231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count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count’ is called by every kernel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ept inlines and a few speci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be a low-overhead rou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ompatible with some compiler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cannot omit frame-pointers on ARM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iler disables some optimizations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 with ARM EA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mbly analysis indicates that mcount callers have well-defined frame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sc no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mcount routine (_gnu_mcount) is 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de to Call m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4495680" cy="3048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txBody>
          <a:bodyPr rIns="0" tIns="9144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570 &lt;sys_sync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0: e1a0c00d mov ip, 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4: e92dd800 stmdb sp!, {fp, ip, lr, pc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8: e24cb004 sub fp, ip, #4 ; 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c: e3a00001 mov r0, #1 ; 0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0: ebffffa0 bl 408 &lt;do_syn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4: e3a00000 mov r0, #0 ; 0x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8: e89da800 ldmia sp, {fp, sp, pc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9200" y="2285640"/>
            <a:ext cx="4648320" cy="3048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txBody>
          <a:bodyPr rIns="0" tIns="9144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570 &lt;sys_sync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0: e1a0c00d mov ip, 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4: e92dd800 stmdb sp!, {fp, ip, lr, pc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8: e24cb004 sub fp, ip, #4 ; 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c: e1a0c00e mov ip, l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0: ebfffffe bl 0 &lt;mcou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4: 00000028 andeq r0, r0, r8, lsr #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8: e3a00001 mov r0, #1 ; 0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c: ebffff9d bl 408 &lt;do_syn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90: e3a00000 mov r0, #0 ; 0x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94: e89da800 ldmia sp, {fp, sp, pc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429000"/>
            <a:ext cx="4495680" cy="68580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setup at run-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21988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-files in debug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mount debugfs –t debugfs /deb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lect a tra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echo function_graph &gt;current_tra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tracing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echo 100 &gt;tracing_thresh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ho funcgraph-abstime &gt;trace_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Data Cap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ng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alized structure for collecting tra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ages buffer as list of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test version is lockless fo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ility to atomically reserve space for an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omatic timestamp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-cpu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oids requiring cross-CPU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 avoids cache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important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m Bird</cp:lastModifiedBy>
  <dcterms:modified xsi:type="dcterms:W3CDTF">2009-07-16T20:23:03Z</dcterms:modified>
  <cp:revision>24</cp:revision>
  <dc:subject/>
  <dc:title>Slide 1</dc:title>
</cp:coreProperties>
</file>